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A2715-6BA0-48A3-AF6A-206A91106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8276D-C636-46E7-9042-8F3550FF8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8ABA0D-D82F-44DA-A0BE-2C9D2AD24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AFDB8B-7926-4CB0-8DAD-B8BF3292A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8F304E-1C8C-4037-87E3-D94030845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83EDD1-8691-40C4-AA06-31BA84D8E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3BE618-3578-449D-B2D9-BD653389D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6CCA85-398B-427D-80A0-6D50CFAE6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AACD87-F575-4927-A810-EDD3F72E9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D9CF4D-F021-4F24-9DF9-9A882E682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BB60EC-8ABB-4696-B32E-DBE49EED5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B9DF1E-6B34-40F2-AEBC-3EDD9CC56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C3E73-954C-4A75-A5F6-AD3C644A3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6A0476-FAA6-4673-822F-EF14E1334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B5119C-1C89-489C-A457-9AFA44373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D1C37F-C843-4ACE-B517-A4DE211EC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4856DC-FAE9-4233-92C3-04AC752C7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1468F2-B3C7-4840-831C-570EB49E5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28CEC0-494C-4599-987C-D9ACB0C41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940F26-E461-4300-88AB-5F7F45CB3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155630-B6FD-44AD-AA0D-72F9997C8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66BB56-E6BF-4243-9529-CDC55D2D8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B9188C-0311-4455-9B35-4C5CDCFC2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D3D4C-0F9D-4EC9-8AA5-89F5F9706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0FE60F-A048-4C90-9F0D-EA28FB8D1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233488-1A3E-4FEE-B4D0-BDC16F91B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EFFD98-9508-4A49-AEDD-377836AAF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A9D6F2-4484-4384-B3E1-BC2FB2D0A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7CFD84-97DC-4679-B217-D4F205266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AAB6CB-4CFB-4F12-AC3B-B48D7A132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AE935C-9BFD-4A21-87DC-A87B4FFE1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573781-E658-4226-AE44-C12723927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6F55BF-BFBF-428B-B7DD-36BE68026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D2708B-3105-433E-BE69-AD2DFAE41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653A3-57D8-4480-BA9F-B2B62DC4E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CCE48C-45FC-4D8A-B3F3-108FF6117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0FED1D-2603-4A4D-BDC8-B1B9CE46B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D26EA2-F794-44F1-BC8E-3DC397D30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086F56-1DBD-45E8-98C7-48F849B8F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6493FE-5CCC-47E9-8BA9-2019D24FA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535574-8445-4916-872D-3728136DD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941A0A-7346-4755-912E-C5D7FAD7F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1BFE10-203F-4D0A-8A5F-380D1D00C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BD1FA9-072B-452A-AF23-CCF674DBC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081EE3-4B54-41DA-B049-4549D2103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14B7B-40A0-4E98-8549-5AD6985AB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FF98B5-83E0-4DC1-9479-CE721D9A7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CC67C9-365C-46A3-9C95-ED4E31BEA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9D2591-64A6-48DC-BB2D-6E9E2BA83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C95728-32AF-4740-AFF8-B11CFCD31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64DF40-6EED-42CC-BCEA-BE941C388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BF17E9A-A9A0-4601-A517-14DD0DBBC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719C6BE-0C5A-4B58-BE45-02164691F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F1C305F-D846-4EB1-A936-6BCDABB54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BA133EA-2461-4087-B476-904F9FD15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1104484-9A74-4283-B2B0-AF42410CB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67F54-3011-4388-B3C1-04EC2CAAF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5207CF2-D46C-49C9-9763-112BDD56F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D10A809-B0D4-4F07-AFB3-E9BAAB0D8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AF49219-6FEA-47CD-ABA7-A403A77DA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4D36BD6-6726-4AC4-814F-D9B4E2DCD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D353C3D-677E-425B-A2F6-0E2FBEFC1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AE66F9F-236F-48FD-88D4-E4ED913ED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CF52DEC-C842-4824-A430-0134462AB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872FBB6-0BBE-47D1-8116-46B54A55E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52CDD53-D57B-42E6-8255-61328C5AB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55EB209-7844-4B9A-8414-FE242BDFD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2A1C8-21E4-47BF-A48F-D15C4FF93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792545B-4B49-4839-B84E-89B23F766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C7094AD-C023-4AA8-AC16-594E4EC14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A4A2DE5-202B-4212-9499-D69BAA6F5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F5DAC3E-1E23-448D-BC32-3F025BF33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01B2EDF-41A2-4E0C-976C-3247CE7E8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B1B3F4D-7836-4B7A-9666-C37401EF3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CC04D60-0149-4EBE-8D6D-FD59AE403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37FA07B-1A21-48C4-A9BF-48670085E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74379AA-A917-4633-B7BC-26A7ED49F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7B47F0B-DC66-485D-A366-A3048E7CB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BF374-7CFF-4DAC-9397-85C0A27E2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BFD3483-3356-4DE4-B5C6-1E8AAC9CD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A134C9A-5108-468F-B56B-13363EFF8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7CA1223-2130-445C-994E-8E33491E2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FD24992-CE38-4677-B39C-4D59D834D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E8A08AD-BAE5-42D0-9C45-C009495BC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DEBCC8B-F623-4BE4-A485-15D379CBC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CF677C0-3B49-4F82-BE03-1F5C28E87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C53A294-6AF9-4B7D-9D95-7CEC516B8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7E4397E-EA83-4782-A269-8097C792E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F90FB1F-9BD0-4DB7-82AF-233FBF47B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69A53-8190-423A-9A8D-47A4A1DDA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8C881C6-5DA9-41B1-8ACA-924E1A415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BB61557-1E53-4890-BD76-B40F34B70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A691805-2238-477D-9BC9-9CBA100E9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5D4A0E6-6E63-4B0F-817C-9F9C33A07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157CA3A-0E84-421F-AD31-183B9B227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862EE67-7980-4244-B05F-74F3DAFC9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307AB08-8881-4569-8CE7-ACF813DFC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8D8D6B0-241A-4733-99B7-7E6C4E5A6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85FB603-B8C1-460B-803F-57406D12F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1A75B56-2346-4F19-AA19-70DE7F53B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AB793-8F57-4A7A-84A9-4E4B199BD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F257EB4-2CFD-46A0-88BB-FB238DC0D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226E05F-4C56-4D16-A40B-8BC11D5C1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2607F51-8240-42CD-B6EC-01F711F2A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CAE2440-6E4A-4EBB-9B66-9B4425FFF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16AC823-2ECC-4921-9859-E7B833FA2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E4ADE65-E263-41F6-953E-B588F0F2E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3B6C60C-5960-4336-A2B5-43228F665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DFB3741-C16A-4E0A-B6FB-22E0FF437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A2A420B-97FC-41D6-A1C1-67023B013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481783D-E02B-4794-BF66-B7575D48B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9C8E0-5938-4771-A3E1-5E2D84E78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5CF31-4BBF-4F7E-A702-52A8CE554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9E465B6-884A-4941-975A-1311E1FA3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F733316-7A6A-4A22-8092-C2EDEA183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B1A29F7-593C-446C-96E6-74612F131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7E6671C-66D6-4484-B19E-602D19309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D603044-2FB5-4C2C-A116-D964CD65F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AFC7DA4-3E03-4BB6-BEAB-4DAD78687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4FF356B-4057-4F2F-853A-C9861FF2F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4E570F4-EAE7-42EF-BE78-44699EEB7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D445AE1-7851-4619-8E39-644592E3F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83FB234-370B-4981-879E-0F966A6D6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3CD2A-B661-4B85-AAAF-8BB4E592D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D535FB7-C41D-440E-8844-BC7DB0C42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6B207D3-60D0-421F-A8BE-B801D0BF3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92E2D2E-4393-46F6-AA7B-70E74DC50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9A29A97-B1EF-41A9-807D-DE256C007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8B3098E-8F0C-4FF7-8E14-1F6BC6905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F94AC28-DCCA-4CDA-8F4A-DC53B4155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4DE5001-082F-4E84-8F1A-E10A9BAA5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8EC9C03-5321-4F08-B8AF-A2D261676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6BBE0F8-20F9-4B92-A6B7-DE92C1F11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42AFF45-7AA4-4ABE-BC6C-2170526C6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92050-4F99-4205-8D9C-1EADBAC90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7053D14-A639-4ED9-8953-E151D40EE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2EC040F-BA8C-46DB-8418-A5B84D028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7AB61BB-39A2-4B10-893E-A06AB71DC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0AEF079-565E-4A06-8D00-69FCAD47E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68BE203-FDDF-459A-AC28-C583CB169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3A3DBF1-B26C-4C59-992A-C64951AE9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61B98B9-9C2B-4741-A72D-7C09B48A6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B63DC9B-E4AD-4D11-A3AF-D3B99DD81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F10E119-09E6-4AE1-8094-50409CBD3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8BDF628-C602-4F29-89A3-8D53BC34D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4697D-6BE6-4365-A7D8-AA34A030E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C19D04E-1434-4D0E-92F8-D83F98EE6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EDF05B9-D358-4B93-B748-ABA584637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A9F1A70-25C9-4E3D-908E-38F912FFE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382CBAB-9E05-4DDD-A3D0-DDB6FBCDE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070B2FD-6B1A-4E26-A37D-642C22483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18DBBF8-2DB2-4C9C-BF5D-D67ED0DD9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735BD04-4208-429C-9904-D61FD5008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C5F4E5A-DCAA-4B0C-AADA-55595B022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C5FE363-C809-4908-9DD2-D364E3098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1BF5045-8AC8-4121-A4C1-7BF8B0351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A4228-7C28-4176-BA71-2F99A55DC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19A39FB-43CC-4988-8938-E02AAC2D8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743AA9D-CA65-4331-BE22-EB4265A5E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5B89C5B-5F79-42CE-89C6-D3F00B2C8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DAA5DC5-7917-4E43-99EF-685A1D169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7BDFE50-3E78-40F9-B2FF-9D7191693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ED12E32-4E40-4E5C-A96B-77BF29340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0C556AA-BE18-4A3B-8EE5-430687D28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5DF86B8-104D-4992-8231-8B8AE47AB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B63DB3A-277F-4CDB-811D-7A56685CA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D7BD35B-E03C-4CDE-B9FB-EA58929BF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B7ABC1-642F-423A-AF41-642E8A551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7F4613E-6D86-48C0-8CFA-602384EA1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5B7A85C-A4EC-4E1B-ABC4-EFD7377A6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A004358-9A7B-42DA-87C4-A9FCE6E2A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2E7F1B-DE71-4FAA-8900-37970FC51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9FBE86-C515-41A1-8194-D7B4C6248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70899C-CC2F-4AD6-B0E8-1B087A21E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F280A9-84D3-446A-BDA2-CAFD878BC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A35E1-5BB7-42A0-AF40-234628826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61C9CE-533A-46ED-B23E-49AA4901D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BA4819-40F8-416F-9F5B-F8CCB2C99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3A355E-3896-4081-8183-5C4DB8261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EF437B-1184-4174-B570-7571870D0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48952E-2B47-4AD5-B6B3-8510D9D22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693A4A-407F-4408-8A9F-E09DA4BD7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5C5809-CE00-40C2-951E-EB723E08F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2E7463-105B-4AAE-967B-E3CAD7ABC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6860C7-589F-41FE-BA67-EFC156BAE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9239B2-FC20-4FF8-A436-5B6DD16AC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83D4B-8819-4D10-A08C-EECE232BA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59740B-7F81-4770-AAB4-E710AC476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C67A1C-B768-471C-A0AB-07A818144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6F7181-D6F2-4A78-9F62-4C449716D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724019-40E2-43B5-B3AE-0A1528F89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B63463-FB69-4F07-9728-151581F9F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729098-BD4A-4256-BD14-C872820E2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E85316-BCB0-4659-BFC0-ECF9A2DAD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E2C744-A691-4A93-B515-D4FC4267A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CBF3C9-6B88-4FB3-A804-4BBCB4EA8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9B9985-74D2-4A1E-97AA-B69E96E62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E344B-6E03-4F50-AAF2-FB2707C54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7B6493-88E4-4B2C-A5AB-198A334FF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85E2A9-A96B-40B8-B431-6BC3E969A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0DA016-6A7A-4318-8F7F-665E210AA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71CFFB-52D4-4922-AFE0-6A9A100AA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C162B7-D6BE-4264-BD52-27F50B834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6D55F8-A6A2-424C-8EEF-03850AE3F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781EAB-A76C-401A-B231-29180B444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78A899-E50A-4AD7-96FE-5725DD9C8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95C84E-4E59-4032-86D6-0A7D23354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53861A-4E3E-476E-8C3A-1BA81FC50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9D94D-EC45-4EB7-A67C-BAB583AA8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3637FF-4DCF-4A45-8404-35681D9EF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FACA24-8EF7-4B8D-AF8A-22FFEB32F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203199-FF7B-4278-8293-A2B991D8F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CED6CE-A1F5-4811-B5C5-0B8FFF84B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EA6B40-4523-4A5B-A96C-1FE260CCB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825BD3-07C0-47FA-B143-91A2E33F9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FE345E-3F02-4D92-BDF3-586D9D0A0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1CB9A4-A2B8-44BB-9469-A64A8BB50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98F861-FAF2-4CB5-AB60-3E242D43D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788888-5A9B-40C1-A8BB-F495D524C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8AA28-CFB0-41DC-808E-0EFD256C1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E3F549-878B-4EBD-AA58-4DDC37C01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049C0E-A68F-474D-8C00-7CFF25728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FB37F7-7663-486D-8C9C-2DFD12AF3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008A11-27DB-445F-8153-DC22AAD3B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4F84DE-B55B-4B04-9DE7-43A7ECA23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3F9102-6056-4FF1-B8E8-3457C0824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555994-A4A7-4B80-B738-3F1E4531B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547BA9-F998-40E2-A8FD-05F4A3A23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B292CD-6E4D-4AA0-AD9A-29EA5698D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14ED1D-F2A9-40A7-B656-446F3FAD9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A6B58-4D79-4BE1-AD18-2C5CB6B55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1507B1-03F2-4CF5-994B-5D61A4EDD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6D722A-F1AA-4FF3-9480-3ECA3F4AD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77F84F-B44B-43BD-873C-4B80FA8E8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550E4A-8A7F-4CFC-A921-74016F892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4471CC-FD82-48C8-9825-165CB6CE1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FD1BA9-9EBA-4E7A-8F00-38F82E23A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4E42E3-BE6F-4708-B10A-969E72C0F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52BB5A-79A2-4CB1-AA65-A79E3ED30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708FA4-9F0D-46C3-B4C9-B59A4BC9B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B33A67-F69D-4201-BBDA-F9F7DC46D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620AF-9AA4-4D3D-9C9C-9F41AA27E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00ABF8-4A79-4951-A943-376C7A9B4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59B91C-B49A-41C5-96DF-5CB27D1B8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7868C5-9E34-44A3-999B-FFB7DBD50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CE8991-511F-47DE-AB03-006509892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AA396C-8350-488B-B2D4-9637E4DC1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FB2216-EE7E-4BCD-B2ED-8FCC24DF6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5DE839-C8B0-4198-BF68-B40239916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3329B1-B557-4A85-907E-B3F007E88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8A29C9-754E-4473-9146-6773DE6D0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641EA4-3B2A-49C6-BBDA-117AB3A86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F1F8B-B957-47C1-B3D7-36E3375C6AF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5A425-FEC4-4E93-8D34-156E9A04B5B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6D94B-C70B-4C58-BCA4-05C60D097AA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8D5AF-81C9-4F4F-A980-E01D0345D2C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8A00F-5B8B-40C8-9749-DCB8490142C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38957-03FB-4F54-9B4B-3565FC2E1AF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830C8-66DB-4890-B836-F30BFC2FF24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85C3A-4F76-493D-8ECE-5D494465269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D0165-DC87-4E0C-B139-F86BAF0E9FF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564CE-B698-4D74-BEE8-250399318D6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77D94-6EB4-4D64-93AD-2FF1E265EDC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BB721-778A-4394-85DB-A20129FD260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DE856-5B29-4340-977B-75C11F296C4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24E7E-EC23-4654-9964-01443F136F0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11BFC-C368-401F-B1A2-E5B95DFE715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6F172-EF14-4394-B2EA-CBFA9E3C982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B614E-B2B2-4585-AC70-674CA7C657D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60400-F5E7-41CF-9EAF-66C7B2FA108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61C44-905A-487E-A3DA-D5303D54F78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BAFAE-FD8E-4D72-82DB-FC2ABD3BA03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EFBE5-A14C-47BF-86A0-703D7F2A4F4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C0723-6DA1-48B1-803F-5022DD2A61B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0F65E-2CD4-41E0-9C6F-CA98E4F0E9B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25AB5-D2B7-4740-BAB8-9F8150B0375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5966C-C404-4074-8072-347C567E3E9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401F1-932A-4A6D-A6DF-F139F484B54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FA1E0-D103-432E-91DB-F1BC4BD7780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E9EDD-0525-4597-A43B-A186AA94DC1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1FDE7-E986-4F58-AA2D-3E3F9DA71AE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2FDAE-E162-431F-9F93-E0AE399799B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BD4BB-51EC-4FA1-AB30-23BCB0914DE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1AC24-2748-4AA9-9B50-419923B9AA2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E2E2C-78A0-4484-8FE3-413999C0E86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1C5F8-D198-4404-A3C5-C32CB9AA272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55635-12EF-49F4-A1F1-2A451F4F13E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3D800-1302-4639-9D04-51BC29C0B3D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59F54-02D8-4879-98EA-812C318C1B4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5BE44-591F-48AA-A516-85775EB25D6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50586-3B7F-4878-A33C-4AC618E93F7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A2029-BF34-47DB-A13E-4075CC3A375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1276200" y="2724120"/>
            <a:ext cx="6591600" cy="14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2" name="图片 60428" descr=""/>
          <p:cNvPicPr/>
          <p:nvPr/>
        </p:nvPicPr>
        <p:blipFill>
          <a:blip r:embed="rId1"/>
          <a:stretch/>
        </p:blipFill>
        <p:spPr>
          <a:xfrm>
            <a:off x="399960" y="1152360"/>
            <a:ext cx="8344080" cy="4553280"/>
          </a:xfrm>
          <a:prstGeom prst="rect">
            <a:avLst/>
          </a:prstGeom>
          <a:ln w="0">
            <a:noFill/>
          </a:ln>
        </p:spPr>
      </p:pic>
      <p:pic>
        <p:nvPicPr>
          <p:cNvPr id="923" name="Picture 1" descr=""/>
          <p:cNvPicPr/>
          <p:nvPr/>
        </p:nvPicPr>
        <p:blipFill>
          <a:blip r:embed="rId2"/>
          <a:stretch/>
        </p:blipFill>
        <p:spPr>
          <a:xfrm>
            <a:off x="1116000" y="3443400"/>
            <a:ext cx="358920" cy="31896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1" descr=""/>
          <p:cNvPicPr/>
          <p:nvPr/>
        </p:nvPicPr>
        <p:blipFill>
          <a:blip r:embed="rId3"/>
          <a:stretch/>
        </p:blipFill>
        <p:spPr>
          <a:xfrm>
            <a:off x="2556000" y="3443400"/>
            <a:ext cx="358560" cy="31896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1" descr=""/>
          <p:cNvPicPr/>
          <p:nvPr/>
        </p:nvPicPr>
        <p:blipFill>
          <a:blip r:embed="rId4"/>
          <a:stretch/>
        </p:blipFill>
        <p:spPr>
          <a:xfrm>
            <a:off x="6084720" y="3457440"/>
            <a:ext cx="358920" cy="31932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1" descr=""/>
          <p:cNvPicPr/>
          <p:nvPr/>
        </p:nvPicPr>
        <p:blipFill>
          <a:blip r:embed="rId5"/>
          <a:stretch/>
        </p:blipFill>
        <p:spPr>
          <a:xfrm>
            <a:off x="7740720" y="3471840"/>
            <a:ext cx="358560" cy="31896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1" descr=""/>
          <p:cNvPicPr/>
          <p:nvPr/>
        </p:nvPicPr>
        <p:blipFill>
          <a:blip r:embed="rId6"/>
          <a:stretch/>
        </p:blipFill>
        <p:spPr>
          <a:xfrm>
            <a:off x="2700360" y="5402160"/>
            <a:ext cx="358920" cy="319320"/>
          </a:xfrm>
          <a:prstGeom prst="rect">
            <a:avLst/>
          </a:prstGeom>
          <a:ln w="0">
            <a:noFill/>
          </a:ln>
        </p:spPr>
      </p:pic>
      <p:pic>
        <p:nvPicPr>
          <p:cNvPr id="928" name="Picture 1" descr=""/>
          <p:cNvPicPr/>
          <p:nvPr/>
        </p:nvPicPr>
        <p:blipFill>
          <a:blip r:embed="rId7"/>
          <a:stretch/>
        </p:blipFill>
        <p:spPr>
          <a:xfrm>
            <a:off x="6227640" y="5388120"/>
            <a:ext cx="358920" cy="3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9" name="图片 59410" descr=""/>
          <p:cNvPicPr/>
          <p:nvPr/>
        </p:nvPicPr>
        <p:blipFill>
          <a:blip r:embed="rId1"/>
          <a:stretch/>
        </p:blipFill>
        <p:spPr>
          <a:xfrm>
            <a:off x="200160" y="2133720"/>
            <a:ext cx="8743680" cy="259056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1" descr=""/>
          <p:cNvPicPr/>
          <p:nvPr/>
        </p:nvPicPr>
        <p:blipFill>
          <a:blip r:embed="rId2"/>
          <a:stretch/>
        </p:blipFill>
        <p:spPr>
          <a:xfrm>
            <a:off x="1303200" y="3343320"/>
            <a:ext cx="358920" cy="318960"/>
          </a:xfrm>
          <a:prstGeom prst="rect">
            <a:avLst/>
          </a:prstGeom>
          <a:ln w="0">
            <a:noFill/>
          </a:ln>
        </p:spPr>
      </p:pic>
      <p:pic>
        <p:nvPicPr>
          <p:cNvPr id="931" name="Picture 1" descr=""/>
          <p:cNvPicPr/>
          <p:nvPr/>
        </p:nvPicPr>
        <p:blipFill>
          <a:blip r:embed="rId3"/>
          <a:stretch/>
        </p:blipFill>
        <p:spPr>
          <a:xfrm>
            <a:off x="1042920" y="4365720"/>
            <a:ext cx="358920" cy="318960"/>
          </a:xfrm>
          <a:prstGeom prst="rect">
            <a:avLst/>
          </a:prstGeom>
          <a:ln w="0">
            <a:noFill/>
          </a:ln>
        </p:spPr>
      </p:pic>
      <p:pic>
        <p:nvPicPr>
          <p:cNvPr id="932" name="Picture 1" descr=""/>
          <p:cNvPicPr/>
          <p:nvPr/>
        </p:nvPicPr>
        <p:blipFill>
          <a:blip r:embed="rId4"/>
          <a:stretch/>
        </p:blipFill>
        <p:spPr>
          <a:xfrm>
            <a:off x="2411280" y="3817800"/>
            <a:ext cx="505080" cy="319320"/>
          </a:xfrm>
          <a:prstGeom prst="rect">
            <a:avLst/>
          </a:prstGeom>
          <a:ln w="0">
            <a:noFill/>
          </a:ln>
        </p:spPr>
      </p:pic>
      <p:pic>
        <p:nvPicPr>
          <p:cNvPr id="933" name="Picture 1" descr=""/>
          <p:cNvPicPr/>
          <p:nvPr/>
        </p:nvPicPr>
        <p:blipFill>
          <a:blip r:embed="rId5"/>
          <a:stretch/>
        </p:blipFill>
        <p:spPr>
          <a:xfrm>
            <a:off x="3708360" y="3919680"/>
            <a:ext cx="358920" cy="318960"/>
          </a:xfrm>
          <a:prstGeom prst="rect">
            <a:avLst/>
          </a:prstGeom>
          <a:ln w="0">
            <a:noFill/>
          </a:ln>
        </p:spPr>
      </p:pic>
      <p:pic>
        <p:nvPicPr>
          <p:cNvPr id="934" name="Picture 1" descr=""/>
          <p:cNvPicPr/>
          <p:nvPr/>
        </p:nvPicPr>
        <p:blipFill>
          <a:blip r:embed="rId6"/>
          <a:stretch/>
        </p:blipFill>
        <p:spPr>
          <a:xfrm>
            <a:off x="5450040" y="3933720"/>
            <a:ext cx="358560" cy="319320"/>
          </a:xfrm>
          <a:prstGeom prst="rect">
            <a:avLst/>
          </a:prstGeom>
          <a:ln w="0">
            <a:noFill/>
          </a:ln>
        </p:spPr>
      </p:pic>
      <p:pic>
        <p:nvPicPr>
          <p:cNvPr id="935" name="Picture 1" descr=""/>
          <p:cNvPicPr/>
          <p:nvPr/>
        </p:nvPicPr>
        <p:blipFill>
          <a:blip r:embed="rId7"/>
          <a:stretch/>
        </p:blipFill>
        <p:spPr>
          <a:xfrm>
            <a:off x="4441680" y="4451400"/>
            <a:ext cx="490680" cy="318960"/>
          </a:xfrm>
          <a:prstGeom prst="rect">
            <a:avLst/>
          </a:prstGeom>
          <a:ln w="0">
            <a:noFill/>
          </a:ln>
        </p:spPr>
      </p:pic>
      <p:pic>
        <p:nvPicPr>
          <p:cNvPr id="936" name="Picture 1" descr=""/>
          <p:cNvPicPr/>
          <p:nvPr/>
        </p:nvPicPr>
        <p:blipFill>
          <a:blip r:embed="rId8"/>
          <a:stretch/>
        </p:blipFill>
        <p:spPr>
          <a:xfrm>
            <a:off x="6948360" y="3832200"/>
            <a:ext cx="287640" cy="25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8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3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8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7" name="图片 58373" descr=""/>
          <p:cNvPicPr/>
          <p:nvPr/>
        </p:nvPicPr>
        <p:blipFill>
          <a:blip r:embed="rId1"/>
          <a:stretch/>
        </p:blipFill>
        <p:spPr>
          <a:xfrm>
            <a:off x="271440" y="1338120"/>
            <a:ext cx="8601120" cy="4181760"/>
          </a:xfrm>
          <a:prstGeom prst="rect">
            <a:avLst/>
          </a:prstGeom>
          <a:ln w="0">
            <a:noFill/>
          </a:ln>
        </p:spPr>
      </p:pic>
      <p:pic>
        <p:nvPicPr>
          <p:cNvPr id="938" name="Picture 1" descr=""/>
          <p:cNvPicPr/>
          <p:nvPr/>
        </p:nvPicPr>
        <p:blipFill>
          <a:blip r:embed="rId2"/>
          <a:stretch/>
        </p:blipFill>
        <p:spPr>
          <a:xfrm>
            <a:off x="1116000" y="2781360"/>
            <a:ext cx="358920" cy="31896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1" descr=""/>
          <p:cNvPicPr/>
          <p:nvPr/>
        </p:nvPicPr>
        <p:blipFill>
          <a:blip r:embed="rId3"/>
          <a:stretch/>
        </p:blipFill>
        <p:spPr>
          <a:xfrm>
            <a:off x="2843280" y="2781360"/>
            <a:ext cx="358560" cy="318960"/>
          </a:xfrm>
          <a:prstGeom prst="rect">
            <a:avLst/>
          </a:prstGeom>
          <a:ln w="0">
            <a:noFill/>
          </a:ln>
        </p:spPr>
      </p:pic>
      <p:pic>
        <p:nvPicPr>
          <p:cNvPr id="940" name="Picture 1" descr=""/>
          <p:cNvPicPr/>
          <p:nvPr/>
        </p:nvPicPr>
        <p:blipFill>
          <a:blip r:embed="rId4"/>
          <a:stretch/>
        </p:blipFill>
        <p:spPr>
          <a:xfrm>
            <a:off x="4572000" y="2781360"/>
            <a:ext cx="358920" cy="318960"/>
          </a:xfrm>
          <a:prstGeom prst="rect">
            <a:avLst/>
          </a:prstGeom>
          <a:ln w="0">
            <a:noFill/>
          </a:ln>
        </p:spPr>
      </p:pic>
      <p:pic>
        <p:nvPicPr>
          <p:cNvPr id="941" name="Picture 1" descr=""/>
          <p:cNvPicPr/>
          <p:nvPr/>
        </p:nvPicPr>
        <p:blipFill>
          <a:blip r:embed="rId5"/>
          <a:stretch/>
        </p:blipFill>
        <p:spPr>
          <a:xfrm>
            <a:off x="6300720" y="2766960"/>
            <a:ext cx="358920" cy="319320"/>
          </a:xfrm>
          <a:prstGeom prst="rect">
            <a:avLst/>
          </a:prstGeom>
          <a:ln w="0">
            <a:noFill/>
          </a:ln>
        </p:spPr>
      </p:pic>
      <p:pic>
        <p:nvPicPr>
          <p:cNvPr id="942" name="Picture 1" descr=""/>
          <p:cNvPicPr/>
          <p:nvPr/>
        </p:nvPicPr>
        <p:blipFill>
          <a:blip r:embed="rId6"/>
          <a:stretch/>
        </p:blipFill>
        <p:spPr>
          <a:xfrm>
            <a:off x="8532720" y="2421000"/>
            <a:ext cx="358920" cy="318960"/>
          </a:xfrm>
          <a:prstGeom prst="rect">
            <a:avLst/>
          </a:prstGeom>
          <a:ln w="0">
            <a:noFill/>
          </a:ln>
        </p:spPr>
      </p:pic>
      <p:pic>
        <p:nvPicPr>
          <p:cNvPr id="943" name="Picture 1" descr=""/>
          <p:cNvPicPr/>
          <p:nvPr/>
        </p:nvPicPr>
        <p:blipFill>
          <a:blip r:embed="rId7"/>
          <a:stretch/>
        </p:blipFill>
        <p:spPr>
          <a:xfrm>
            <a:off x="8459640" y="2781360"/>
            <a:ext cx="358920" cy="318960"/>
          </a:xfrm>
          <a:prstGeom prst="rect">
            <a:avLst/>
          </a:prstGeom>
          <a:ln w="0">
            <a:noFill/>
          </a:ln>
        </p:spPr>
      </p:pic>
      <p:pic>
        <p:nvPicPr>
          <p:cNvPr id="944" name="Picture 1" descr=""/>
          <p:cNvPicPr/>
          <p:nvPr/>
        </p:nvPicPr>
        <p:blipFill>
          <a:blip r:embed="rId8"/>
          <a:stretch/>
        </p:blipFill>
        <p:spPr>
          <a:xfrm>
            <a:off x="8459640" y="3141720"/>
            <a:ext cx="358920" cy="318960"/>
          </a:xfrm>
          <a:prstGeom prst="rect">
            <a:avLst/>
          </a:prstGeom>
          <a:ln w="0">
            <a:noFill/>
          </a:ln>
        </p:spPr>
      </p:pic>
      <p:pic>
        <p:nvPicPr>
          <p:cNvPr id="945" name="Picture 1" descr=""/>
          <p:cNvPicPr/>
          <p:nvPr/>
        </p:nvPicPr>
        <p:blipFill>
          <a:blip r:embed="rId9"/>
          <a:stretch/>
        </p:blipFill>
        <p:spPr>
          <a:xfrm>
            <a:off x="8388360" y="3529080"/>
            <a:ext cx="358920" cy="318960"/>
          </a:xfrm>
          <a:prstGeom prst="rect">
            <a:avLst/>
          </a:prstGeom>
          <a:ln w="0">
            <a:noFill/>
          </a:ln>
        </p:spPr>
      </p:pic>
      <p:pic>
        <p:nvPicPr>
          <p:cNvPr id="946" name="Picture 1" descr=""/>
          <p:cNvPicPr/>
          <p:nvPr/>
        </p:nvPicPr>
        <p:blipFill>
          <a:blip r:embed="rId10"/>
          <a:stretch/>
        </p:blipFill>
        <p:spPr>
          <a:xfrm>
            <a:off x="8459640" y="3933720"/>
            <a:ext cx="358920" cy="319320"/>
          </a:xfrm>
          <a:prstGeom prst="rect">
            <a:avLst/>
          </a:prstGeom>
          <a:ln w="0">
            <a:noFill/>
          </a:ln>
        </p:spPr>
      </p:pic>
      <p:pic>
        <p:nvPicPr>
          <p:cNvPr id="947" name="Picture 1" descr=""/>
          <p:cNvPicPr/>
          <p:nvPr/>
        </p:nvPicPr>
        <p:blipFill>
          <a:blip r:embed="rId11"/>
          <a:stretch/>
        </p:blipFill>
        <p:spPr>
          <a:xfrm>
            <a:off x="8532720" y="4292640"/>
            <a:ext cx="358920" cy="318960"/>
          </a:xfrm>
          <a:prstGeom prst="rect">
            <a:avLst/>
          </a:prstGeom>
          <a:ln w="0">
            <a:noFill/>
          </a:ln>
        </p:spPr>
      </p:pic>
      <p:pic>
        <p:nvPicPr>
          <p:cNvPr id="948" name="Picture 1" descr=""/>
          <p:cNvPicPr/>
          <p:nvPr/>
        </p:nvPicPr>
        <p:blipFill>
          <a:blip r:embed="rId12"/>
          <a:stretch/>
        </p:blipFill>
        <p:spPr>
          <a:xfrm>
            <a:off x="8532720" y="4653000"/>
            <a:ext cx="358920" cy="318960"/>
          </a:xfrm>
          <a:prstGeom prst="rect">
            <a:avLst/>
          </a:prstGeom>
          <a:ln w="0">
            <a:noFill/>
          </a:ln>
        </p:spPr>
      </p:pic>
      <p:pic>
        <p:nvPicPr>
          <p:cNvPr id="949" name="Picture 1" descr=""/>
          <p:cNvPicPr/>
          <p:nvPr/>
        </p:nvPicPr>
        <p:blipFill>
          <a:blip r:embed="rId13"/>
          <a:stretch/>
        </p:blipFill>
        <p:spPr>
          <a:xfrm>
            <a:off x="8445600" y="5041800"/>
            <a:ext cx="358560" cy="319320"/>
          </a:xfrm>
          <a:prstGeom prst="rect">
            <a:avLst/>
          </a:prstGeom>
          <a:ln w="0">
            <a:noFill/>
          </a:ln>
        </p:spPr>
      </p:pic>
      <p:pic>
        <p:nvPicPr>
          <p:cNvPr id="950" name="图片 58386" descr=""/>
          <p:cNvPicPr/>
          <p:nvPr/>
        </p:nvPicPr>
        <p:blipFill>
          <a:blip r:embed="rId14"/>
          <a:stretch/>
        </p:blipFill>
        <p:spPr>
          <a:xfrm>
            <a:off x="826920" y="4221000"/>
            <a:ext cx="2495880" cy="1362240"/>
          </a:xfrm>
          <a:prstGeom prst="rect">
            <a:avLst/>
          </a:prstGeom>
          <a:ln w="0">
            <a:noFill/>
          </a:ln>
        </p:spPr>
      </p:pic>
      <p:pic>
        <p:nvPicPr>
          <p:cNvPr id="951" name="图片 58387" descr=""/>
          <p:cNvPicPr/>
          <p:nvPr/>
        </p:nvPicPr>
        <p:blipFill>
          <a:blip r:embed="rId15"/>
          <a:stretch/>
        </p:blipFill>
        <p:spPr>
          <a:xfrm>
            <a:off x="5211720" y="4581360"/>
            <a:ext cx="1952640" cy="9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5" dur="5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0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5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0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5" dur="5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0" dur="5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5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0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5" dur="5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0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5" dur="5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0" dur="5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5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0" dur="5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19T08:01:35Z</dcterms:modified>
  <cp:revision>2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